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473-8E8B-41C9-A749-E71E2A3F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E31-13F0-45BF-A794-5C031822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A79E7-150A-405A-A4B0-76C36130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DE3E2-127C-48BC-8E0A-FE1C369F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7F0E3-5965-4186-A6C0-1D5B840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1A433-D445-4088-82B6-A8BB24A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8B16E-3CC2-442B-8E82-2AA723BB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85775-AB42-4DA5-9214-D5C42A8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C5E1C-69A9-4F5B-8F9E-4B3F0739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BB28B-02AD-4FC0-942E-D9779CA5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EC714-BC08-4272-8CA6-7E33C4F8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BB956-FE37-4B43-83C8-AF776552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F1B-67FF-41A6-AC71-DA09E78C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494A3-4DF3-4F7C-A122-6F2AA8C3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1DE8C-0ED3-45E4-945C-7515BD3C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8E794-8C6A-416F-877E-303ACB90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F6A27-ED6F-454E-90CA-49922D40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ADC1E-1BB6-451E-94F8-5A285277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9A24E-7E1F-4FBA-B6AF-4055C6C8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FE23A-0942-447C-91CC-A2DCCF31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C7D20-297B-40E9-9B38-23EBD8E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1C33C-311F-49F4-858F-D608225C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45135-6669-40A7-9C0F-36CDF259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292-2422-41B9-91D7-381F04CC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81731-6AF9-4E96-8E5E-AE71C653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76295-44E2-41E5-A7E2-3336F48A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D1981-5533-498D-80AB-9E301927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733B0-4FA6-4F32-BB89-7F6EAAEE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C80BD-ABA8-4CD8-86F6-854896B4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DA3FD-7FB5-4A48-A0A0-7D06DC61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7D64C-A8B5-4033-A5AA-CD27A2FB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7684B-3A63-4441-8B16-6678E77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7D753-014B-4CB2-AF54-C23E591D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C5CD4-6D52-4B86-838C-9003E907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F0D4-0FD4-4A0C-9244-8F8A99EC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54A2B-8D62-44A8-B842-BC87451F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22228-DB9F-476E-B155-3D0481EF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2139A-A11A-4F3E-9CA6-FB061E58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1D843-535E-4AFD-B2A2-9113C344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FB6BB-38A2-4CA3-AE79-CBFBF3E6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D5A0C-5B43-4A3E-A9C7-3B2AA3EA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9AAFD-0BDD-4439-B983-1006D5AC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C42A5-69AA-4F9C-9D39-B0D6D25A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AD905-327D-4170-A9B5-44241290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00499-2B09-4343-9E29-A699435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315B-931F-4A52-B413-86ECE5E3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1601D-4359-4764-B8A8-879A100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58D05-B8A6-4729-B5F2-5C9D6E2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3A3B0-1B1F-4661-95D8-B796B70D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41601-83F8-4DEE-9F2D-4423DC96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016DF-8CBE-44F7-A17A-601CAA49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67226-BF8C-48D4-AD48-6B880CE7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3C632-07B7-44E2-B3A9-A1609256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DFBC6-0B52-419C-86B1-B96280A6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8BF0E-E842-42F6-A3F5-61AD1A83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D4C40-4E42-49C5-B471-7B07B41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341C-ABB2-445B-A854-F229ED65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CD116-159C-4A10-A901-691B290C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10BAA-F34D-4DE3-8103-238FC219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C8E4E-0F20-46FC-9A2B-6B054BAA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89039-696D-4DF2-BA59-4B96DCB8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B17C9-E763-4135-B9FB-CF9947C0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6066F-00DC-44FC-90BA-C0ADCB9F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E3340-09CC-4EE4-9991-6C3E950D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31DEC-7BE1-4A64-A63F-B096E749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7C5C0-8182-4EAF-AD9D-3CE7220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ACB3AE-D681-4328-8EC5-98BC8DD4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7A6B-7786-4B16-B0A9-217C4BF4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84C72-6725-46ED-A4F3-015D30E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8B2D4-4315-47F2-A83F-68731559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18B86-ED15-49C8-A154-268FFFAC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FD42B-C298-42C6-AA19-95C04AEA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AC435-D14E-422A-A4AC-9E1FC6C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22810-73C7-4234-85F7-3C94EBC8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6C695-9EAE-4368-87D4-7782FE27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D27AF-042E-443C-A6E0-FFDD6300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E0D4D-0943-458D-B2FF-85BF0376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A69B9-28FC-4A8A-AF9F-34C25DBA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1C19-5CD3-4B9E-AF7A-AD39B50C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7AE07-987A-427B-8BB3-8213C8CA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03B3F-AB40-41EF-B1EB-A7270F96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C2B7C2-53B0-4B9E-9692-7F26250F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9AD140-F4ED-4873-8C9C-E6B63C2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D4B78-2A4C-4301-8E7E-E8127A69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E0965-8265-4421-BB22-889DCF29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1E4BA-1D3C-4813-8AEB-7F2DD383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DE545-65EE-4ED0-BA96-18F07862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13D7D-C37A-4215-8C81-E082F721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4499B-90E4-436D-82A9-8B172AE8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A141-CC31-4BF8-97CE-7EB0E4F4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84A39-87C5-42FB-8494-D9FC4F33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CD94D-CA3F-4C30-B8B2-BB9C7DD5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C0076-04B8-4D61-8358-4999B7EE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762AC-CF2E-478F-9F27-28879A04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0C180-1F47-4926-872F-80A8E2D3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1A90F-991B-49C7-BD69-6F98E262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E950E-58D7-4266-9408-E478CB7B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7683CA-B9A2-460B-9FC5-AD263596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7960E-47D9-447F-A817-4ECA13B3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FBE12B-2CE6-4D5B-8405-32CAE0A8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6A9-E947-40D8-A16E-7EBD0DFA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CF841-ABC0-43CD-A9D3-70E9B640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3E6BF-9625-4629-B757-41F45144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EA446-BBC2-42CE-8F66-F53A5786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E15BD-F473-4314-BD49-ADF5F992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D5E9E-53A5-4BC7-A410-2D58CA1F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AE250-80C0-4D5F-97C2-D2338593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487BE-4BC3-4349-B483-2C81FF1C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0DA1E-6FE5-4FA5-909E-E2345113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863FBD-A9AC-4ABC-AD6B-5C21466F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CE009-5ADA-4AEF-9AEC-BA24A40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1B9-D9DB-4823-BFDF-AC928020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6532-BB67-4303-8C41-AAC65FA9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C4B23-28EE-46E6-A004-2EC44B01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797C0-CA98-46F1-A81A-E704AF75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32D9E-32DF-4F80-98AB-D3B08113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27082-81E5-465F-9D84-3502F87C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8C985-3E68-42DB-B7D9-B8B8DE98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8F3600-8B30-4775-8FA1-F7AA9994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82A56-B42A-4C6E-94A8-E825FEEE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F29202-83A8-4DCB-91B2-08CC5899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29C20E-2FB4-48D5-BB9F-0BF82CCC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5862B1-C0A6-4CFD-8250-C1D9A5C8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B125-13CF-4210-8771-FAFAFA8B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57256A-81AF-4828-BCC9-2F8DBB08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D9B83C-2A46-4D2F-ACF6-726A3A5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2E0FF4-EBEB-4FAF-BECE-4DC7BF9A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70E82-47BE-49E1-8E0F-F15CDAC9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2C6B6-6769-496C-95FD-7C15AC40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CFBAF1-9E87-48C0-957C-07FCA9A4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A69A97-9AF9-443E-A0F5-83EFDAE1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B466A-40A0-4C1D-8BCB-E116E8CD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602CB6-1C15-4F52-80AB-A5FF6171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B95D80-C6BB-4748-8C7C-01F26232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176C-7D7B-431F-877E-D0FA846F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2F542-09B5-4CD9-BB02-C8637EDC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D2ADC8-0526-4176-90A7-311675DE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CD279-F92E-45CE-B421-3174D827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94FBA-EE70-42E8-842A-123C0786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F23783-61FD-4065-85AB-3BA40D9B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26689-1B55-4A2E-9639-4C1D9A5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3173D-FEDE-4C30-87C7-2F460880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C5BD6-B0AA-4471-809F-6997E911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C1BD4-C6C1-4B40-B116-06B1CFC2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81B947-9F90-498E-98D4-9564FB22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1CB0-806C-4466-844E-A8D10C84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86BA1-B940-4507-807B-0BAAE481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E24C67-C097-4003-85D2-42EDBF23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7DB7CE-1F90-4E2D-A2EB-8C90980C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0A26C-98FE-4BDA-ACD1-0497DF7A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59727-7DF7-4A61-BBAC-2420CBC2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47FA7-236F-4D3D-8112-9A245870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7D922-5942-4E0F-BE34-59894578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E98F32-7C9F-4B54-B369-47AE71F1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EFA38-C7CD-4227-87FD-E221BBE9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350EC3-0370-43F8-BF92-B2CD8C7E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33AC-2F79-42CC-B588-DE54648A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2BC8F-C841-42C3-AFE5-CE5B2F2C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C402F-6CAE-4276-ABE0-98E4824A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6FAADD-45AC-4126-B390-65471BC0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9612A0-C214-4C51-B2CD-053AE10B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294FF8-1583-463F-AAA5-23ACC50C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63FF1-6796-4BE0-B02C-852C245A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31EA8-C5C3-4331-9A60-3B46290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56AA8-AC08-4491-A964-2D24CBF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268292-9B17-4F6C-A5DB-1B87DAA5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9853E-CEC7-4B5E-B8D2-3C8663E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29BE-BA18-4862-9DD8-9E749F0B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41C124-352E-4B49-B099-BD44AEC4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EDC5DA-9065-4D76-B50A-B41EC419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16E7B9-9197-4787-8442-1ACFD82E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3EDA6-BA91-4DB6-A165-66523EF0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17A8-9B90-46CD-A505-62F9AAF5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AD673-05F9-4C89-B003-A5338AC6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406A-9027-4073-B16D-C818C339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8B1-CF8D-4B24-931E-C8274C01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F762-12AC-43C5-A4AC-552D7CF7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29DE-7E23-450F-943D-2F20F30A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BE0D-E954-4CFB-BF3A-994A843D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1A9B-585A-48C3-B5A2-7C2DBB17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E2DE9-C25D-4A1D-8FF9-F85F5F02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BA55-EDC5-4869-A52B-D94840CB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DFD7-BD8F-4BD6-8374-F4413313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1C7E-E391-4C43-B0A0-AE5E605F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DD33-DC0B-45FA-8652-CEE0646D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83FB8-DFB2-476B-841C-8C615C05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668-A3C8-443F-BDAA-76027740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8F4C-E48A-4723-A20E-EA8472C6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64A9A-0261-41D5-B71F-642D412F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B623-B408-4059-BFDA-31905A71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92E5-2490-4AFC-8A8C-7527C12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5EB74-E12F-4069-A084-22BCF88E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F688-DB32-4CB5-8CD0-35BE1FEB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923D-2019-42FF-9A22-2DB080C8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74FA4-9B9E-4108-AA14-A701F446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0331-F36D-48E3-912C-8AFABCFC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C95F-3779-42C1-A423-77C4EA82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10D-0B12-41A2-A074-89A35C4C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16653-67C7-4D5E-BABE-F9B12CE4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DA030-3C34-4CC7-AB1F-BC0E6D4F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26D9-61A6-411C-B582-D9C44B54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5580D-4B9E-4AB7-B4A2-C3589375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6D0E2-8146-4CBB-B4E1-5F19DF5B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A1DDF-540F-4793-A0DC-E8B926B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309F6-ED9F-497C-B8CD-7767CCBA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6B4C9-420D-4847-9875-72F80EA0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10A8-EF75-4CB5-9596-5034F7E8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B2288-6262-4AD3-A515-9B13DEB1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C75-B9F3-43BC-847F-AA20DBCA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8A8A9-0999-4593-A8FB-F450E847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EC59-524B-4B7B-B349-6FDE998C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249D5-1A9A-4E5D-BE55-80129546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39D5-02C3-47BD-8991-3CCCE095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2A2B3-F37D-42DA-9E7A-B7A4FE39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79355-7CCD-4CE8-93C8-42BDB63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8133-2D60-4F30-87A2-3F228647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BE93-898C-4D31-9BC0-6A06663E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82FB4-0668-499A-88E3-678DBDD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CC33D-76F6-4E31-AF8C-A8CE395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E8F-4057-4F9F-BD6B-6F0511A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37201-3C8E-4F10-86F3-9CDC1FD1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11B25-EB16-4556-B75A-AA73DE98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E71A-FA5A-402A-8CBC-2097AA17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FE46E-B9D8-47A1-8027-1E87F70C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7C009-734D-4D1F-BCAD-4C8DBC83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F9639-EB73-44D8-A765-97EF2BAB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4FF55-1E8E-49CF-A5FE-F9D9EAE0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B0664-EDFC-4CCD-A4DD-01E456EB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12A36-6DEE-4A7F-B216-2AC701CD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110D-7A72-468B-89BF-B711713A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97A-3E12-447D-8952-39CC4E5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7C1FE-A04F-487B-9EDA-E0FDC476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7E15-0782-4FA8-801F-CA2C1EF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158B7-B3A0-4181-BEE3-B8A7848E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C18A-D8B0-4BF7-BDE7-058307A8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5D1C7-DFA9-4694-B13D-FB38D11B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1A68E-EBF6-4F88-AEBE-D2FECDDC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610DC-5FF2-4AD8-A28F-3BA42BB4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3847A-60A6-4AA6-90E7-6EA1A543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B8187-694D-4307-AAB1-B41D6A06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2D30B-6A62-4A1D-91C0-2B031F95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4E7-8122-4BF6-9E90-18641F3D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D19AC-38D5-4B17-9DD0-C3E93E91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85A5E-30FE-4442-B08A-152CFEF8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5D891-7AA0-4335-B237-EBDFE24F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C5DEB-6D9D-4831-A7D3-1FEB242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5DE39-D7A0-4284-97D7-EEC6F1C2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D7CFE-922F-45FC-B860-6E38C822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309F3-BFE2-47AB-A08B-88147B95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C7A3A-7799-4091-9166-6C2C1978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1CE4D-8FDB-4EDF-8848-EF89B1F8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C6A91-5145-4AF1-B746-6241466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CE90-F9F7-4B9E-A134-334E8C0890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18AF-A433-47F3-974A-70D7C5E41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F992-2F29-4599-A8A4-6154F12ED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E876-43C8-483E-A070-507186B733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2B63-B5C4-418A-BF39-F322FADA7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68BC-CD3A-47ED-ACEC-BD0B5A321A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7D26-8B19-4E4F-9088-367C2CAA81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398-A42E-4B2E-9C18-AEBB1C2F87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3A3B-54C5-4D79-95DE-329FFB1DEE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9C93-8106-49D3-8E3A-4FEEAB35E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4C7A-9188-4332-9BC9-47B8369CED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98C4-C745-47B4-BD27-D5C4B00F35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BBF3-1A6A-4687-8271-A3D151DE7F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73EC-2176-4E76-9B63-BC2CBECFB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088B-F58B-4AAC-B1B2-B6AE4B5140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526C-9703-48D7-9976-597355E3A8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1BAA-14E6-4589-8DDD-B6B1ADFD56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3464-A057-4D54-874B-EB546F0F0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06E5-9004-4C06-B56E-461DA86413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D864-8808-49E3-A1AF-3B82817497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2FB8-9681-4138-9677-5752DDAE1E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36BF-DF0E-467A-9069-A7518D3A0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1DDE-DD9D-47F5-83AA-8206C34263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3E0B-F41E-4F3F-AC8A-00C097F7D9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A3A-9207-42CB-B660-19CD866A0A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AD4D-D344-492B-890D-8B76D0D84A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18C-F5FD-4515-B29E-3BA32D3C05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8218-5F40-4CE2-BCFC-2646B51A57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F295-F867-4D81-AE87-15386466F5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F46-A911-494E-8FAF-930D8E9FB0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0ABA-75B4-46F8-B989-881BD22B94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2C8C-0996-419E-AA04-CF31B63C77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24BC-F429-4172-98D9-B9243641C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1EA9-C084-4BFC-AF1A-772EA2F88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2928-F2AC-432D-BC76-D4D8FB4B7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0C88-22A5-4423-ADDB-A0B9863014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87CD-AAA8-4D63-9039-766DBC4D4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53A-C20D-4206-A957-F74CDEA76D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77F5-D802-4B7F-BFC8-1D5EEDDA9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5599-E82A-4DC7-B19B-7277B2702B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00160" y="3105000"/>
            <a:ext cx="51436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500040" y="549360"/>
            <a:ext cx="8143920" cy="62197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826920" y="1111320"/>
            <a:ext cx="3889440" cy="934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755640" y="2075040"/>
            <a:ext cx="7488360" cy="934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611280" y="4811760"/>
            <a:ext cx="7488000" cy="934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1042920" y="5848200"/>
            <a:ext cx="74883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1733400"/>
            <a:ext cx="85536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57280" y="789120"/>
            <a:ext cx="8029440" cy="5952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028880" y="3141720"/>
            <a:ext cx="649080" cy="934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649080" cy="934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500720" y="3068640"/>
            <a:ext cx="649080" cy="934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4716360" y="4653000"/>
            <a:ext cx="649440" cy="934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948360" y="5373720"/>
            <a:ext cx="517680" cy="431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020000" y="4869000"/>
            <a:ext cx="517320" cy="431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948360" y="6394320"/>
            <a:ext cx="517680" cy="432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7020000" y="5889600"/>
            <a:ext cx="5173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14520" y="1233360"/>
            <a:ext cx="7914960" cy="4391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657840" y="1542960"/>
            <a:ext cx="435240" cy="733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667640" y="2089080"/>
            <a:ext cx="434880" cy="733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5767560" y="2708280"/>
            <a:ext cx="434880" cy="733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867280" y="3573360"/>
            <a:ext cx="1441440" cy="9352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1547640" y="4537080"/>
            <a:ext cx="14418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309600" y="790560"/>
            <a:ext cx="8524800" cy="527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55640" y="3170160"/>
            <a:ext cx="5761080" cy="8920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5761080" cy="8920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684360" y="5143680"/>
            <a:ext cx="8135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290520" y="947880"/>
            <a:ext cx="8562960" cy="49622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755640" y="3919680"/>
            <a:ext cx="5832360" cy="863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971640" y="4811760"/>
            <a:ext cx="6769080" cy="503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900000" y="5343480"/>
            <a:ext cx="6769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290520" y="766800"/>
            <a:ext cx="8562960" cy="532440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5301" descr=""/>
          <p:cNvPicPr/>
          <p:nvPr/>
        </p:nvPicPr>
        <p:blipFill>
          <a:blip r:embed="rId2"/>
          <a:stretch/>
        </p:blipFill>
        <p:spPr>
          <a:xfrm>
            <a:off x="941400" y="6246720"/>
            <a:ext cx="2838600" cy="495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826920" y="2579760"/>
            <a:ext cx="8137800" cy="5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84360" y="3170160"/>
            <a:ext cx="8137440" cy="906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684360" y="4164120"/>
            <a:ext cx="8137440" cy="906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684360" y="5172120"/>
            <a:ext cx="8137440" cy="906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250920" y="6237360"/>
            <a:ext cx="8137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33280" y="852480"/>
            <a:ext cx="86774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833400" y="1895400"/>
            <a:ext cx="7477200" cy="30672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00000" y="1816200"/>
            <a:ext cx="7704360" cy="10364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7704000" cy="1036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77040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35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